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640-5D34-487D-A70C-574DDB40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E89-B599-4C1C-A9AA-F20CE7A0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3A9-F774-414D-BBB1-C29C8B0D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3BBF-8E89-4F6D-B970-C63D5300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ED7-550D-44BE-9B3B-CB531685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324-A41D-412D-B6F9-024B5538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AF7-99A0-4949-820A-912D1381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341-50FA-4BCB-8725-0FB1702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CFC-18C5-4D90-8C90-D4A3ED53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0CE-409A-42CE-8D8B-A590790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CFE-0981-4656-80D4-B1F67E59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455-1CC1-4FF4-B2D5-A59BEF12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F74-49AA-40E4-B546-355B89E7A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4572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cc00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3548160"/>
            <a:ext cx="86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 - 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52280" y="19810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Evangelos Sfakiotakis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Professor of Pomology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Aristotle University of Thessaloni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77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78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00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00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4019400"/>
            <a:ext cx="6172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eharvest applications offers 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ptimisation require understanding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crop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disease epidemi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biology, ecology and population dynamic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interaction amo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Object 8"/>
          <p:cNvGraphicFramePr/>
          <p:nvPr/>
        </p:nvGraphicFramePr>
        <p:xfrm>
          <a:off x="152280" y="914400"/>
          <a:ext cx="11355480" cy="4653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1135548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0" y="6480"/>
            <a:ext cx="9163080" cy="68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Botrytis rots starts from senesc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flower parts that become latent infec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ch develop later into active ro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on rip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Good control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Aureobasidium pullu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Candida oleophi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prayed at bloom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y colonise the flowers and prev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the colonisation by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B. cinere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5013360" y="990720"/>
            <a:ext cx="4130640" cy="62420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8949960" y="100080"/>
            <a:ext cx="15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3880" y="2629080"/>
            <a:ext cx="3505320" cy="114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28600" y="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Latent and quisc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3300"/>
                </a:solidFill>
                <a:latin typeface="Arial"/>
              </a:rPr>
              <a:t>inf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9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fection through wounds during harvest and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505320" y="730080"/>
            <a:ext cx="5638680" cy="36561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-9360" y="4343400"/>
            <a:ext cx="8970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Mechanical injuries during harvest and postharvest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 near harvest application of postharvest with antagonist delay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apples a (2 days) preharvest application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C. sake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had less blue mou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fter 4 months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On strawberries treated with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immediately before harves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Rhizopu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rot was reduced by 72% but not o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. cine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 flipV="1">
            <a:off x="685800" y="2895480"/>
            <a:ext cx="4876920" cy="1524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8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380880" y="228600"/>
            <a:ext cx="90680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Suppression of pathogen inocul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anaging fruit rots by means of preharvest treatments with biocontrol agents--&gt;suppress the pathogen at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protects floral cups of grape from botrytis inva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152280" y="228600"/>
            <a:ext cx="90680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Unadvisable postharvest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hen postharvest handling is unacceptable (the produce may become less appealing) best to apply preharvest application of biocontro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.g. grapes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fruits with waxy bloom on the surf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ppl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3 days before harvest-the grape bunches are directed packed in the field and stored at 0°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same with strawberries spay with suspension of antagonistic propagules, one day before harvest, pack the into plastic baskets where they remain until they reach the consu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52280" y="228600"/>
            <a:ext cx="906804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Ideal antagonist characteristics: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lerate low nutrien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UV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sic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apid climati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resence of ag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228600" y="423720"/>
            <a:ext cx="906768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deal antagonist characteristic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Genetic 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fficacy at low concentrations and against a wide range of pathogens on various fr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imple nutri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urvival in adverse environment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Lack of pathogenicity for the hos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Safe for hum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Resistant to the pestic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mpatibility with other chemical and physical treatment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52280" y="228600"/>
            <a:ext cx="906804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Resistance to environment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Filamentous fungi and yeast are the most appropriate antagon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acteria are less tolerant of the harsh environmental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nder high RH some bacteria may control postharvest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UV radiation detrimental factor for microbial colonisatio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o protect yeast and bacteria form cell capsules with polysacharid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152280" y="228600"/>
            <a:ext cx="90680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ttachement to the host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mportant for surface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In yeasts production of slime (extracellular polysacharides) - the main mechanism to adhere to the leav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-based technologies for the control of postharvest diseases</a:t>
            </a:r>
            <a:br>
              <a:rPr sz="4400"/>
            </a:br>
            <a:r>
              <a:rPr b="0" lang="el-GR" sz="3600" spc="-1" strike="noStrike">
                <a:solidFill>
                  <a:srgbClr val="ff0000"/>
                </a:solidFill>
                <a:latin typeface="Arial"/>
              </a:rPr>
              <a:t>Use of 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152280" y="228600"/>
            <a:ext cx="5639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raits of antagonists for preharvest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ruit surface colo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rucial is the host fruit colo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 successful biocolonisation agent should well established before the pathogen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A. pollulan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applied to grapes, strawberries and sweet cherries, indicated population densities in the field did not change and in each case were caused a decrease in postharvest decay during cold storage and afterward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792760" y="2057400"/>
            <a:ext cx="3348000" cy="480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52280" y="228600"/>
            <a:ext cx="9068040" cy="60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ixture of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o assure adequate disease control under various conditions a mixture of antagonists is be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broaden the spectrum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enhance efficacy-allowing a reduction in applica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t may allow the combination of various biocontrol traits without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sorting generic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pples -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Sporobolomyces roseu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. syringae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/ blue mould on Golden Delic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Better microorganism mixtures could be selected if we know the ecology of the microorg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52280" y="228600"/>
            <a:ext cx="906804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tegrated control with the use of pestic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esticide applications can have a harmful effect on non-pathogenic microbial populations (e.g. app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integration of fungicides with biocontrol agents offers an opportunity to reduce the amount of fungicide in preharvest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52280" y="228600"/>
            <a:ext cx="90680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mproving the efficacy of biocontrol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Auxiliary to improve biocontro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M. pulcherrima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(R320) was improved in preharvest application using chitos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Calcium chloride application significantly improved the efficacy of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A. pullula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in preharvest grape application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3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152280" y="228600"/>
            <a:ext cx="9068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Final remarks and future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" y="1752480"/>
            <a:ext cx="4343400" cy="15264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1752480"/>
            <a:ext cx="22860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800600" y="1752480"/>
            <a:ext cx="396252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0840" y="11430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Growth and development in the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638320" y="112716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ost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091040" y="8128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Harv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25440" y="2021040"/>
            <a:ext cx="37893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 antagonist applied in the field prior to harvest can reduce the inoculumat harv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antagonist will be in the right place at the right moment ready to colonise the susceptible tissues (senescing floral parts, freshly made wounds etc.) before the arrival of path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cological studies are necess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Needs for detecting and monitoring biocontrol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role of getetic manipulation with cloned genes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013280" y="1981080"/>
            <a:ext cx="238752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Line 11"/>
          <p:cNvSpPr/>
          <p:nvPr/>
        </p:nvSpPr>
        <p:spPr>
          <a:xfrm>
            <a:off x="4648320" y="12193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maich.png"/>
          <p:cNvPicPr/>
          <p:nvPr/>
        </p:nvPicPr>
        <p:blipFill>
          <a:blip r:embed="rId3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3"/>
          <p:cNvGrpSpPr/>
          <p:nvPr/>
        </p:nvGrpSpPr>
        <p:grpSpPr>
          <a:xfrm>
            <a:off x="532080" y="2882880"/>
            <a:ext cx="8611560" cy="1092240"/>
            <a:chOff x="532080" y="2882880"/>
            <a:chExt cx="8611560" cy="1092240"/>
          </a:xfrm>
        </p:grpSpPr>
        <p:grpSp>
          <p:nvGrpSpPr>
            <p:cNvPr id="150" name="Group 4"/>
            <p:cNvGrpSpPr/>
            <p:nvPr/>
          </p:nvGrpSpPr>
          <p:grpSpPr>
            <a:xfrm>
              <a:off x="532080" y="3197160"/>
              <a:ext cx="8611560" cy="777960"/>
              <a:chOff x="532080" y="3197160"/>
              <a:chExt cx="8611560" cy="777960"/>
            </a:xfrm>
          </p:grpSpPr>
          <p:sp>
            <p:nvSpPr>
              <p:cNvPr id="151" name="Rectangle 5"/>
              <p:cNvSpPr/>
              <p:nvPr/>
            </p:nvSpPr>
            <p:spPr>
              <a:xfrm>
                <a:off x="609480" y="3822480"/>
                <a:ext cx="4343040" cy="152640"/>
              </a:xfrm>
              <a:prstGeom prst="rect">
                <a:avLst/>
              </a:prstGeom>
              <a:solidFill>
                <a:srgbClr val="99ff33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4952880" y="3822480"/>
                <a:ext cx="2282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Rectangle 7"/>
              <p:cNvSpPr/>
              <p:nvPr/>
            </p:nvSpPr>
            <p:spPr>
              <a:xfrm>
                <a:off x="5181480" y="3822480"/>
                <a:ext cx="3962160" cy="15264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8"/>
              <p:cNvSpPr/>
              <p:nvPr/>
            </p:nvSpPr>
            <p:spPr>
              <a:xfrm>
                <a:off x="532080" y="3213000"/>
                <a:ext cx="425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Growth and development in the fiel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9"/>
              <p:cNvSpPr/>
              <p:nvPr/>
            </p:nvSpPr>
            <p:spPr>
              <a:xfrm>
                <a:off x="6018840" y="319716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000" spc="-1" strike="noStrike">
                    <a:solidFill>
                      <a:srgbClr val="0000ff"/>
                    </a:solidFill>
                    <a:latin typeface="Arial"/>
                  </a:rPr>
                  <a:t>Postharvest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0"/>
            <p:cNvSpPr/>
            <p:nvPr/>
          </p:nvSpPr>
          <p:spPr>
            <a:xfrm>
              <a:off x="4471920" y="2882880"/>
              <a:ext cx="113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0000ff"/>
                  </a:solidFill>
                  <a:latin typeface="Arial"/>
                </a:rPr>
                <a:t>Harve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Rectangle 11"/>
          <p:cNvSpPr/>
          <p:nvPr/>
        </p:nvSpPr>
        <p:spPr>
          <a:xfrm>
            <a:off x="235800" y="2209680"/>
            <a:ext cx="75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hen the antagonist should be appli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829040" y="4038480"/>
            <a:ext cx="43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confined environment for the storage of the harvested commodities provides a great opportunity for applying biocontrol ag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temperature and the RH are stabl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and control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y act in more concentrated plant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the value of the harvested crop is great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enough to justify expensive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control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5105520" y="327672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76320" y="20570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The confined storage environment great opportunity for applying biocontrol agents since temperature and humidity are stable and control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Easy to apply biocontrol agents (they act on the more concentrated plant par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High value to justify extensive expensive control procedure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0880" y="3808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Advantages to implemment biocontrol after harv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"/>
          <p:cNvGraphicFramePr/>
          <p:nvPr/>
        </p:nvGraphicFramePr>
        <p:xfrm>
          <a:off x="382680" y="1444680"/>
          <a:ext cx="11045880" cy="4052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1444680"/>
                    <a:ext cx="1104588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Picture 5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Biological control of postharvest diseases</a:t>
            </a:r>
            <a:br>
              <a:rPr sz="3200"/>
            </a:b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with antagonistic bacteria, filamentus fungi and ye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re research is needed to understa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mode of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cological success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f antagonistic microorganisms on the surface of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effect of PH practice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on the biological activity of the introduce antag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dynamics of the interactio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between antagonists, pathogen and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Human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health and safety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68580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228600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Plant and animal-derive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lant ex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Essential oils and vola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Microbial fermentation and animal by-products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ff"/>
                </a:solidFill>
                <a:latin typeface="Arial"/>
              </a:rPr>
              <a:t>(chitosan, pullu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Washed product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velop more rot than unwashed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Bacillus subtilis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from the surface of citrus fruit</a:t>
            </a:r>
            <a:br>
              <a:rPr sz="2400"/>
            </a:b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inhibited the development of 13 pathogens of citrus fr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ff0000"/>
                </a:solidFill>
                <a:latin typeface="Arial"/>
              </a:rPr>
              <a:t>Trichoderma sp</a:t>
            </a:r>
            <a:r>
              <a:rPr b="0" lang="el-GR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reduces the green mold disease of citrus fruit by 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049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ff"/>
                </a:solidFill>
                <a:latin typeface="Arial"/>
              </a:rPr>
              <a:t>Isolation of natural antagon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60948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1752480"/>
            <a:ext cx="914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Induced resistance in PH commod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efence respones - activation of defence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deposition of lignin, callose, and hydroxiproline-rich glycoproteins; accumulation of phytoalexin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-synthesis of proteinase inhibitors and lytic enzymes (chitinases, chitosanase, b-1,3-glucanases)</a:t>
            </a: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572000" y="3962520"/>
            <a:ext cx="4572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6"/>
          <p:cNvGrpSpPr/>
          <p:nvPr/>
        </p:nvGrpSpPr>
        <p:grpSpPr>
          <a:xfrm>
            <a:off x="838080" y="4203720"/>
            <a:ext cx="3733920" cy="2654280"/>
            <a:chOff x="838080" y="4203720"/>
            <a:chExt cx="3733920" cy="2654280"/>
          </a:xfrm>
        </p:grpSpPr>
        <p:pic>
          <p:nvPicPr>
            <p:cNvPr id="184" name="Picture 7" descr=""/>
            <p:cNvPicPr/>
            <p:nvPr/>
          </p:nvPicPr>
          <p:blipFill>
            <a:blip r:embed="rId3"/>
            <a:stretch/>
          </p:blipFill>
          <p:spPr>
            <a:xfrm>
              <a:off x="838080" y="4203720"/>
              <a:ext cx="3733920" cy="26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8"/>
            <p:cNvSpPr/>
            <p:nvPr/>
          </p:nvSpPr>
          <p:spPr>
            <a:xfrm>
              <a:off x="2724840" y="4230360"/>
              <a:ext cx="17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Healed wou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Arial"/>
                </a:rPr>
                <a:t>in ap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maich.png"/>
          <p:cNvPicPr/>
          <p:nvPr/>
        </p:nvPicPr>
        <p:blipFill>
          <a:blip r:embed="rId4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68580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286000"/>
            <a:ext cx="9144000" cy="33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ntrol of PH diseases with elic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Ultraviolet light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(non-ionizing radiation-190-280 nm) activates the biosynthesis of phytoalexins and elicitation of pathogenesis related prote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Prestorage heating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potential for control of postharvest diseases by directly inhibiting pathogen growth, activating the natural resistance of the host, and indirectly by slowing down the ripening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Chitosan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esides interfering directly with fungal growth, chitosan can induce several defence responses in plant tissue.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Attenuated strains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ff"/>
                </a:solidFill>
                <a:latin typeface="Arial"/>
              </a:rPr>
              <a:t>by inoculation with certain microorganisms (e.g. by antagonists yeasts)to induce defence response in harvested tiss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2286000"/>
            <a:ext cx="9144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Genetic transformation of plants to increase disease                                                                             re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Several pathogen- activated defence genes have been identified, cloned, and studied at the molecular level. Attepts are underway to generate transgenic plants with defence-related 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6094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Biologically -based technologies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l-GR" sz="4400" spc="-1" strike="noStrike">
                <a:solidFill>
                  <a:srgbClr val="0000ff"/>
                </a:solidFill>
                <a:latin typeface="Arial"/>
              </a:rPr>
              <a:t>for the control of postharvest dise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2286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Combining different biological control method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7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directly interacts with path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Trichoderm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attack pathogens by direct parasit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the possible production of glucanases or chitinases by the antagon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17524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ff"/>
                </a:solidFill>
                <a:latin typeface="Arial"/>
              </a:rPr>
              <a:t>Antagonistic microorganis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 of yeast antago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successfully competes with pathogen for nutrients and/o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US-7 yeast against the citrus pathogen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lium digita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By secretion of antibio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ibiotic</a:t>
            </a:r>
            <a:r>
              <a:rPr b="0" i="1" lang="el-G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with wide antifungal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Bacillus substilis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Pseudomonas ceparia-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produce an antibiotic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(iturin, gramicidin S)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with wide antifungal spectr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against 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Monilinia fruticol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on stone fr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seudomonas cepacia</a:t>
            </a: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 ----&gt; pyrrolnitrin /</a:t>
            </a:r>
            <a:r>
              <a:rPr b="0" i="1" lang="el-GR" sz="2000" spc="-1" strike="noStrike">
                <a:solidFill>
                  <a:srgbClr val="0000ff"/>
                </a:solidFill>
                <a:latin typeface="Arial"/>
              </a:rPr>
              <a:t>Penicilium digitatum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Antagonistic y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nutrient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site ex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direct parasi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maich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19520" y="1600200"/>
            <a:ext cx="396216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28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Arial"/>
              </a:rPr>
              <a:t>Mode of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ff"/>
                </a:solidFill>
                <a:latin typeface="Arial"/>
              </a:rPr>
              <a:t>The antagonist induces resistance processes in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ff"/>
                </a:solidFill>
                <a:latin typeface="Arial"/>
              </a:rPr>
              <a:t>e.g. when US-7 (yeast against Penicillium) ethylene production increased--&gt; activity of PAL (phenols, phytoalexins and lignin)-increased resistance to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aich.png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14:54:46Z</dcterms:created>
  <dc:creator>Sfakiotakis</dc:creator>
  <dc:description/>
  <dc:language>en-US</dc:language>
  <cp:lastModifiedBy>dimoleni</cp:lastModifiedBy>
  <cp:lastPrinted>2005-05-24T12:16:42Z</cp:lastPrinted>
  <dcterms:modified xsi:type="dcterms:W3CDTF">2011-04-29T13:20:37Z</dcterms:modified>
  <cp:revision>39</cp:revision>
  <dc:subject/>
  <dc:title>Xειρισμοί για αντιμετώπιση μετασυλλεκτικών ασθενειών</dc:title>
</cp:coreProperties>
</file>